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969-25AB-4291-8BB6-5B179DEB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505-7437-45F8-9ABA-F586013C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F5E-74E0-43FA-83AF-70736C73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C80-1840-405A-A63E-36D9C25A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2E2-DC15-45CB-98F9-9E622A8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781-F864-47FF-978D-7DA12C8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949-46EE-49BE-BA58-E51D077B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75E-BE45-42C5-B706-50F55BAF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A26-D257-4988-9187-FDA32A17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DA8-FB1E-450C-9014-B877F5A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21A-E738-44D0-A94B-334C8290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706-90DB-43B7-BCD1-E5D96C98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8499-D40D-4C18-92D8-5CB406029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6600ff"/>
                </a:solidFill>
                <a:latin typeface="Arial"/>
              </a:rPr>
              <a:t>Bialowieza National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95840" y="280044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7840" y="23684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18446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62864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4080" y="2277360"/>
            <a:ext cx="604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66ff"/>
                </a:solidFill>
                <a:latin typeface="Arial"/>
              </a:rPr>
              <a:t>National park located in north-eastern part of Polish,</a:t>
            </a:r>
            <a:br>
              <a:rPr sz="1600"/>
            </a:br>
            <a:r>
              <a:rPr b="1" i="1" lang="pl-PL" sz="1600" spc="-1" strike="noStrike">
                <a:solidFill>
                  <a:srgbClr val="0066ff"/>
                </a:solidFill>
                <a:latin typeface="Arial"/>
              </a:rPr>
              <a:t> in Podlaskie province, </a:t>
            </a:r>
            <a:br>
              <a:rPr sz="1600"/>
            </a:br>
            <a:r>
              <a:rPr b="1" i="1" lang="pl-PL" sz="1600" spc="-1" strike="noStrike">
                <a:solidFill>
                  <a:srgbClr val="0066ff"/>
                </a:solidFill>
                <a:latin typeface="Arial"/>
              </a:rPr>
              <a:t>created 17 August 1932 year as a National Park in Bialowi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0920" y="4365720"/>
            <a:ext cx="1905120" cy="1218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7960" y="3069360"/>
            <a:ext cx="627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3399"/>
                </a:solidFill>
                <a:latin typeface="Arial"/>
              </a:rPr>
              <a:t>Białowieża is the best preserved natural</a:t>
            </a:r>
            <a:br>
              <a:rPr sz="1600"/>
            </a:br>
            <a:r>
              <a:rPr b="1" i="1" lang="pl-PL" sz="1600" spc="-1" strike="noStrike">
                <a:solidFill>
                  <a:srgbClr val="ff3399"/>
                </a:solidFill>
                <a:latin typeface="Arial"/>
              </a:rPr>
              <a:t> forest on the European Lowlands.</a:t>
            </a:r>
            <a:br>
              <a:rPr sz="1600"/>
            </a:br>
            <a:r>
              <a:rPr b="1" i="1" lang="pl-PL" sz="1600" spc="-1" strike="noStrike">
                <a:solidFill>
                  <a:srgbClr val="ff3399"/>
                </a:solidFill>
                <a:latin typeface="Arial"/>
              </a:rPr>
              <a:t> More than two thirds of its area covered by forests deciduo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-2273400" y="342900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40000" y="400536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cc00"/>
                </a:solidFill>
                <a:latin typeface="Arial"/>
              </a:rPr>
              <a:t>The symbol of the park b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1728720" cy="1755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859280" y="4437000"/>
            <a:ext cx="2879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20:24:31Z</dcterms:created>
  <dc:creator>Marcelinka</dc:creator>
  <dc:description/>
  <dc:language>en-US</dc:language>
  <cp:lastModifiedBy>Marcelinka</cp:lastModifiedBy>
  <dcterms:modified xsi:type="dcterms:W3CDTF">2010-05-29T20:41:49Z</dcterms:modified>
  <cp:revision>2</cp:revision>
  <dc:subject/>
  <dc:title>Bialowieza National Park</dc:title>
</cp:coreProperties>
</file>